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3CAF-383B-4F93-81BE-989B0330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BE81-0980-4068-8037-7F66C6961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A92E-1FD4-456A-8108-54FAC068B8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3765-F497-47FD-A87B-7F8B23950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347-1655-467B-B9D8-AAB6F47CF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F3EC-C93E-4A70-A79B-27A3FD9BB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7D73-CB55-4DB9-B253-B5A68DCCD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56D-D801-43B6-9924-5D44FBF90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81E-EA33-4E20-B8CF-ED27C8F7E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55EB-664D-4AA7-AD1E-411DC05C68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096-01F0-43E5-BFA6-A976DFFC28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3525-ACCC-4E9F-BEB9-2A098500B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86D-F25F-4461-A286-9558A374E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71BA-16DF-486B-8E1A-38967043A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92A-3136-4990-904F-53C0BD34D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ndensation (dehydration) re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hydro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A017-C97E-44C1-8F3D-E11558DAB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6BC-D2C6-4B46-B312-A3E685107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81CF-11ED-468B-87D0-C2CE3BB47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FEE-B965-44FA-BEF7-0EC7699BE0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EC0-B1B5-4BD0-AE27-FAF57D7DCB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9CD2-D4F2-4290-9097-BF874FDF1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7BE-DC55-4F00-9BA6-13D1A0744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69E-1416-4FB0-9796-21FEE126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019-58FE-42D9-BF8E-893E7A0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CB993-18AE-49C2-B3AF-DC359D82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28DB-9B9A-402E-A45B-965156C6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1AE5-AFC5-499C-9A40-F908E33D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F6E5-6F1F-4472-8269-E5F6FDA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6D2E-54E3-44ED-87EB-F45C852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FED6-5C92-4B76-94F3-0A1F993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B8A97-69FF-4D7E-9C00-0D884AC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27A5-01D3-4956-AD70-8F510E3C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309F-CC46-4333-8506-48158CDF7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31B43-EE4E-4A4E-BBC9-398AE9906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E1C-F781-4A8B-B11A-D9135A9B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5F1FF-0AF9-4AC4-AA99-50AC9F5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48EE0-1F32-455E-BA03-A1D24A3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2EE45-7DE5-4BA3-B85A-C3FE7DF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876A8-D4AD-4D34-B046-8A65D45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44160-6D51-465E-8114-19939B2C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1F293-4AC0-42E0-9C29-5862BD1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1B521-25CA-4439-941F-8FA6F17C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630F3-2B83-4B59-BACC-AEBF5819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441BE-082B-4E31-A4C4-EE0F81A8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1EFE7-1BA0-4B76-84EA-AA503E5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F3-2B0C-46CD-B115-5936C429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89A75-2557-47BF-8F52-9A1B7D549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2E4484-7A49-46F1-ADDF-3179CDCCF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1E313E-81BF-49A6-8F44-04756EE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F315E-17CA-4AA9-8471-88D5797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A8DAB-7546-4E81-A3C5-844C860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E73CB-9C31-4F98-B9BD-86192028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B719E4-0095-4C3C-9FFE-271271D6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929E8-0B04-4C57-8AB1-F47D4D8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BCD3E-5C67-4DE2-8D53-C690B96D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2FBFD-3C90-48CD-9C2C-EFAA2F9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9EB2-3AC2-46EA-903C-DB8F7DF07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245B0D-2356-4676-982E-E3F9A01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09FEA-3C40-4AB1-97AE-065788F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776A7-B8C5-40D4-AA0B-433735FA0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1B40C-C8FF-438D-A01C-486BFE1EB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5552A-96EF-41B7-861B-2176FF4F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2B9E5-C645-4C73-BEDD-B6C4FD9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E1A01-F92D-40AF-968C-4711271A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C5F6-EA2F-4201-A5AE-71EF8CFF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2CD8-8D04-42F1-9954-88175A38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4164-C53B-4F73-95AF-CC300C07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EEC48-0809-4C08-90A7-BBD0060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DADE6-25E5-4711-8173-DB698E1F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D120-9FC7-4A7B-A1FB-15406A2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CC64-5EF3-4DBF-B284-94359195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0DADE-1B65-41D0-A0D8-CF55518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371C6-1BE2-4E5F-8DA0-7105F802B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BBDFB-20AD-44FE-95B2-EF4368C1A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2A925-8C21-4D7F-BB74-3B02473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3E5C7F-3B62-4C44-941D-650999A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BBE31-84E4-4846-AF3C-61D60E2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47D9A-CE46-4BCE-9F03-42D703C7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6DA7-ABAD-45CC-A54E-285ABED0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8FDC84-076D-4994-A8ED-F661038F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1814B-7D34-4908-9CE7-D6511A4B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C81C6-5D4C-4AEF-B4C7-02799EE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ACF25-717A-4ED7-879F-16035F3D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DEE3D3-371C-49C8-A5BB-A800B4D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86042-FA73-4AD7-9362-64CAD08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DF647-337B-497E-80D7-D1BE2DD78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4910C-0580-40C6-9300-9F4B465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25C3E-3524-4531-B0ED-3B600549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48F35-6C52-438E-BB8A-547C7867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30A22-8D8A-4E8D-BC28-2219CB4B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A1C-BD25-4121-B353-77D27DE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916E-4D0C-4C68-AF42-A09E108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EBCF9-02A9-410C-99E5-4D4626C8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C1442-A5DA-4DE5-95E7-79D4AC7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F12D-AA77-4C96-8437-64551F9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11A24-EBBF-4A5E-A41C-671943B4B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732-01FB-457B-8A05-75754A0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BDE27-2327-4FA4-A3F0-5D20BBE75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CDB05-1851-4EBF-9EDC-DD7BC4C2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A7184-A942-4349-B4E1-BF4795A5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359-AECF-4B3A-9675-EC332871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A4037-9745-429B-B68A-FA66393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25739-38BB-4FCD-B9F0-8182D651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B481F-65BE-4921-86C0-F1D43A46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E3B3D-184D-4422-86C2-05C452E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97ED6-9EB0-4FE4-86D8-69A65C25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11CFC-BC44-4217-A8E1-E015742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D999E-2E48-4588-BC84-1AAB4FD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54352-1F54-479B-9E11-B4A72EF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4D120-7A11-4AF3-A91E-F584A6287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601DA-38CB-439E-A0E2-DBBF10FC4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C77-E670-43B6-8110-A0DC37B2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755AE-3B2C-4E91-90ED-5CEC457D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34F7A-876A-4170-A5FC-06F50DB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9DB08-8FA4-4CF6-988E-28CE6DC2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DA383-BD75-49A8-9663-2C923B02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DCCCE-D41F-4E6C-897C-0077C3EA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966F1-5E64-491C-9B26-CA64370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B4170-3C23-42BA-B322-5F24B712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DC4B3-317B-4927-962E-F675355C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79A67-301B-4FB9-99A1-653C1FD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1656C-8864-4E72-AF44-7F78F3F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C39-8672-45EF-A791-F9E1067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FCE7D-0905-46C5-8D0A-B07B4253F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2B9D-AE1E-4A72-A783-EFEC824D3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0C4D-BA6C-464F-9A92-0BD6AABA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982E-0755-40DC-AD92-C082131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A471-1F7A-477C-850E-45AE1A6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0028-F353-4A9B-96FD-116A8940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369A-F819-4CC2-8EA4-E44ADB7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08B0-E174-45EE-97A1-0D88FAC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68DB-A862-48B8-A381-E47986D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C27F-4A75-4E63-B99F-20FE738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E2B-52DF-4B02-A82C-CAD49C3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711C-674F-4783-B8D0-13D0068A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4D65-5EDC-4830-9BCC-F7EF2FB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4A43-731B-4FD1-93BC-1B252203C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602C7-1DC9-4935-A83A-0AACBD190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551E2-1DD7-4D63-8071-E95F7EA7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9A49E-CB63-49EC-B155-BB515CB1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2DE71-5634-40E3-9AE1-F05DB1F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F7ED3-5272-45C3-9706-025A968A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E6916-80FE-4A63-89A7-E614D11F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DFDA5-1979-44C9-96D2-1EFCF8F4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6BF-AD2D-4BFD-956B-59309D4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AC163-AA16-43A4-B07A-AC0B7532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7F607-E5F1-429C-89F0-316CF4B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2EB89-BDFE-40B4-86F1-F745CE9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2B3CD-B8AA-48FD-8F93-F2CC039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23C69-BDF4-4388-897E-9A313617E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A5E72-DECB-40D3-93B0-BD092E332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87A2B-09F8-46BC-A470-4AD439E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C4499-E3B9-464B-BC57-CF72F5E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4921B-A43C-45D8-B375-CADA054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764C4-0E11-44FE-BBB3-4DE04054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43D-686D-42E0-9715-76CEE40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F1F0E-6BC4-42F9-93ED-383DE53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73BEA0-3CCE-44F3-9D1F-12E8DDA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6E591-4EBB-4D03-A63C-3041A9E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DDE2E1-B4CE-4A6F-B604-DBADD076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7FADF-16C8-45F3-B26D-BA42A569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75EA9-6C65-4B55-B06B-4C71ABD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3BC0F-A317-4F80-AE6D-13A5AE181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E912-E057-408F-B235-47C13EC57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4290-F4F7-42A1-878F-B274E64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57B1-1229-4974-92FF-512BC9E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EE6-45A8-4608-86F4-53A8707CA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05EA-3E72-4DC1-A53F-3D3CDC2DC29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dt" idx="2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2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8B6-E2EE-438C-8C1B-367EFB445CD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dt" idx="2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2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7928-E7D2-4AEC-ACB2-79EE818B7435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dt" idx="2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2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69E-53F1-4027-B080-B53E3063CA4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dt" idx="27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9FD-DA13-4882-B7E4-3EF44136F04C}" type="slidenum">
              <a:rPr b="1" lang="en-US" sz="1200" spc="-1" strike="noStrike">
                <a:solidFill>
                  <a:srgbClr val="40458c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90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94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919-9FE3-406D-8723-B04855E8AB8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dt" idx="9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0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343-4BF9-4303-80DF-2941484F169B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1AEC-B809-4A97-B172-DAD8FB49C5A0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dt" idx="1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7176-A2D7-4DB7-9064-E206D50B82F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1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B62-6105-4F3B-87A2-31F8166E1DB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dt" idx="17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MS PGothic"/>
              </a:rPr>
              <a:t>AP Biolo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8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9D77-0F62-4CB0-B37E-376EF2378BFC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dt" idx="19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ogle.com/url?sa=i&amp;rct=j&amp;q=enzyme+graph&amp;source=images&amp;cd=&amp;cad=rja&amp;uact=8&amp;ved=0CAcQjRw&amp;url=http%3A%2F%2Fmandevillehigh.stpsb.org%2Fteachersites%2Flaura_decker%2Fenz_rxn_graphs.htm&amp;ei=sQMjVaCvO9O3ogTtxIGYDg&amp;bvm=bv.89947451,d.cGU&amp;psig=AFQjCNHRRcnNKeQYLpNVnKgR8WDU-9D6LQ&amp;ust=1428444434538802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Biochemistry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8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 bonding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between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reate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ohe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is “stick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tens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rinking stra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bu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moves up a tre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d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other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anc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isc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climbs up fi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x. paper tow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371600" y="3613320"/>
            <a:ext cx="3429000" cy="316836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is the solven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is a good solvent due to its polar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molecules surround + &amp; –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vents dissolve solutes creating aqueous solu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5334120" y="3508200"/>
            <a:ext cx="33526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il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: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ey have a char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5" name="Picture 1033" descr=""/>
          <p:cNvPicPr/>
          <p:nvPr/>
        </p:nvPicPr>
        <p:blipFill>
          <a:blip r:embed="rId1"/>
          <a:stretch/>
        </p:blipFill>
        <p:spPr>
          <a:xfrm>
            <a:off x="5562720" y="3481560"/>
            <a:ext cx="3352680" cy="3224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34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1447920" y="3813120"/>
            <a:ext cx="30477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ob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do not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pol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il, wax, 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0" name="Picture 1028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410000" cy="24238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029" descr=""/>
          <p:cNvPicPr/>
          <p:nvPr/>
        </p:nvPicPr>
        <p:blipFill>
          <a:blip r:embed="rId2"/>
          <a:srcRect l="0" t="10763" r="0" b="0"/>
          <a:stretch/>
        </p:blipFill>
        <p:spPr>
          <a:xfrm>
            <a:off x="6019920" y="3300480"/>
            <a:ext cx="2631960" cy="33559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030"/>
          <p:cNvSpPr/>
          <p:nvPr/>
        </p:nvSpPr>
        <p:spPr>
          <a:xfrm>
            <a:off x="1977480" y="63237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at (triglycer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is less dense then liquid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ce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loat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bonds form a crystal with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ose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s are further apart and less den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rcRect l="0" t="0" r="69216" b="11934"/>
          <a:stretch/>
        </p:blipFill>
        <p:spPr>
          <a:xfrm>
            <a:off x="6553080" y="3543480"/>
            <a:ext cx="2210040" cy="28573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hbond_ice"/>
          <p:cNvPicPr/>
          <p:nvPr/>
        </p:nvPicPr>
        <p:blipFill>
          <a:blip r:embed="rId2"/>
          <a:stretch/>
        </p:blipFill>
        <p:spPr>
          <a:xfrm>
            <a:off x="3465360" y="3975120"/>
            <a:ext cx="2708280" cy="2257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Watch_for_Ice"/>
          <p:cNvPicPr/>
          <p:nvPr/>
        </p:nvPicPr>
        <p:blipFill>
          <a:blip r:embed="rId3"/>
          <a:stretch/>
        </p:blipFill>
        <p:spPr>
          <a:xfrm>
            <a:off x="1447920" y="4038480"/>
            <a:ext cx="15858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cific he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has high specific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e to H bonding: it takes a lot of energy to change the temperature of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resists changes in temper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heat it 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cool it dow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derates temperatures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aporative coo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sms rely on heat of vaporization (energy required to turn liquid to gas) to remove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s bonds are broken, heat is released into the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75" name="Picture 6" descr=""/>
          <p:cNvPicPr/>
          <p:nvPr/>
        </p:nvPicPr>
        <p:blipFill>
          <a:blip r:embed="rId1"/>
          <a:stretch/>
        </p:blipFill>
        <p:spPr>
          <a:xfrm>
            <a:off x="5884920" y="1612800"/>
            <a:ext cx="30304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forms 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gen i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splits off from water to leave a hydroxide ion (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H)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0 ----&gt; 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 +  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oncentration of 2 ions is equal,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neutra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&gt;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 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acid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 &gt;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bas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pH sca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how acidic or basic a solution 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38862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c chemistry is the study of 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electrons in outer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83" name="Picture 5" descr=""/>
          <p:cNvPicPr/>
          <p:nvPr/>
        </p:nvPicPr>
        <p:blipFill>
          <a:blip r:embed="rId2"/>
          <a:srcRect l="0" t="0" r="0" b="19366"/>
          <a:stretch/>
        </p:blipFill>
        <p:spPr>
          <a:xfrm>
            <a:off x="1066680" y="4724280"/>
            <a:ext cx="5207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687" name="Object 2"/>
          <p:cNvGraphicFramePr/>
          <p:nvPr/>
        </p:nvGraphicFramePr>
        <p:xfrm>
          <a:off x="1066680" y="3657600"/>
          <a:ext cx="28958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657600"/>
                    <a:ext cx="2895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3"/>
          <p:cNvGraphicFramePr/>
          <p:nvPr/>
        </p:nvGraphicFramePr>
        <p:xfrm>
          <a:off x="3657600" y="4952880"/>
          <a:ext cx="2286000" cy="112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952880"/>
                    <a:ext cx="228600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4"/>
          <p:cNvGraphicFramePr/>
          <p:nvPr/>
        </p:nvGraphicFramePr>
        <p:xfrm>
          <a:off x="6095880" y="3429000"/>
          <a:ext cx="1600200" cy="1600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42900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densation rea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hydration 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</a:t>
            </a:r>
            <a:r>
              <a:rPr b="1" lang="ja-JP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ing</a:t>
            </a:r>
            <a:r>
              <a:rPr b="1" lang="ja-JP" sz="2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energ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4724280" y="358128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Hydrolysi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 apart mono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verse of condensation rea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 is split into H and O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Date Placeholder 3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4"/>
          <p:cNvSpPr/>
          <p:nvPr/>
        </p:nvSpPr>
        <p:spPr>
          <a:xfrm>
            <a:off x="914400" y="1657440"/>
            <a:ext cx="678168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"/>
          <p:cNvSpPr/>
          <p:nvPr/>
        </p:nvSpPr>
        <p:spPr>
          <a:xfrm>
            <a:off x="4305240" y="1657440"/>
            <a:ext cx="0" cy="358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8"/>
          <p:cNvSpPr/>
          <p:nvPr/>
        </p:nvSpPr>
        <p:spPr>
          <a:xfrm>
            <a:off x="914400" y="3448080"/>
            <a:ext cx="67816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9"/>
          <p:cNvSpPr/>
          <p:nvPr/>
        </p:nvSpPr>
        <p:spPr>
          <a:xfrm>
            <a:off x="1537920" y="1217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"/>
          <p:cNvSpPr/>
          <p:nvPr/>
        </p:nvSpPr>
        <p:spPr>
          <a:xfrm>
            <a:off x="5310360" y="1262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1"/>
          <p:cNvSpPr/>
          <p:nvPr/>
        </p:nvSpPr>
        <p:spPr>
          <a:xfrm>
            <a:off x="1836720" y="5222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4956840" y="52228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Metabolism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is the sum of all chemical reactions in your body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a reactions breaks things down, it is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catabo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a reaction builds things up, it is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anabo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Arial"/>
              </a:rPr>
              <a:t>Energy is released or consumed</a:t>
            </a:r>
            <a:endParaRPr b="1" lang="en-US" sz="4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0520" y="19047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an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exergonic reactio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energy is released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you break things down, you release energy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ll catabolic reactions are ex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ellular respiration is exergonic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hese are spontaneous reacti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elta G (a measure of free energy) is negativ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3" name="Picture 3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43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66"/>
                </a:solidFill>
                <a:latin typeface="Arial"/>
              </a:rPr>
              <a:t>Energy is released or consumed</a:t>
            </a:r>
            <a:endParaRPr b="1" lang="en-US" sz="4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80880" y="175248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an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endergonic reactio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energy is absorbed.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you build things, you need energy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ll anabolic reactions are end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Photosynthesis is endergonic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hese are non-spontaneous reacti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elta G is positiv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6" name="Picture 3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8573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zyme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s are proteins.  They are catalysts that speed up chemical reactions by lowering the amount of energy needed for those reactions to start (activation energy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9" name="Picture 3" descr=""/>
          <p:cNvPicPr/>
          <p:nvPr/>
        </p:nvPicPr>
        <p:blipFill>
          <a:blip r:embed="rId1"/>
          <a:stretch/>
        </p:blipFill>
        <p:spPr>
          <a:xfrm>
            <a:off x="228600" y="4089240"/>
            <a:ext cx="3809880" cy="27687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" descr="http://mandevillehigh.stpsb.org/teachersites/laura_decker/enz_rxn_graphs_files/image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886200"/>
            <a:ext cx="3772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 Chapter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rcRect l="11428" t="0" r="11428" b="4441"/>
          <a:stretch/>
        </p:blipFill>
        <p:spPr>
          <a:xfrm>
            <a:off x="4363920" y="2157480"/>
            <a:ext cx="4703760" cy="46242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attracted to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s a stick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39" name="Picture 8" descr="dimer"/>
          <p:cNvPicPr/>
          <p:nvPr/>
        </p:nvPicPr>
        <p:blipFill>
          <a:blip r:embed="rId2"/>
          <a:stretch/>
        </p:blipFill>
        <p:spPr>
          <a:xfrm>
            <a:off x="1170000" y="4363920"/>
            <a:ext cx="233532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21:47:54Z</dcterms:created>
  <dc:creator>Allison Magee</dc:creator>
  <dc:description/>
  <dc:language>en-US</dc:language>
  <cp:lastModifiedBy>Allison Magee</cp:lastModifiedBy>
  <dcterms:modified xsi:type="dcterms:W3CDTF">2015-04-06T22:25:57Z</dcterms:modified>
  <cp:revision>4</cp:revision>
  <dc:subject/>
  <dc:title>AP Biochemistry Review</dc:title>
</cp:coreProperties>
</file>